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8072-CA13-44BB-9E8F-98578901F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E9AE-7560-429B-A324-46C37CDB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8B95-F526-4ECE-9283-27A39E9B9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3163-C89C-4A7C-9FBD-FB142E950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C906-9808-4238-92A4-5B864927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A3D8-8CD0-4CCE-A749-6BE1BFEB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306C-542F-4437-A1DD-16C2BA79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685F-6292-4196-A8FC-3586F937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40EA-513C-4B3C-8B41-B0751B57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4101-30EF-4B75-8492-52D51FEE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5A0F-3D24-4F11-AA51-8DC1323B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575D-3F11-4F4B-8358-83FAD339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1AA3-2976-495C-99FF-6DD2922C7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 Book of 2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entu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Vaiva, Courtney, and Aa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view with Nijole Pupi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21:06:34Z</dcterms:created>
  <dc:creator>Student</dc:creator>
  <dc:description/>
  <dc:language>en-US</dc:language>
  <cp:lastModifiedBy>Student</cp:lastModifiedBy>
  <dcterms:modified xsi:type="dcterms:W3CDTF">2009-01-06T21:06:58Z</dcterms:modified>
  <cp:revision>1</cp:revision>
  <dc:subject/>
  <dc:title>Log Book of 20th century </dc:title>
</cp:coreProperties>
</file>